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BDE81-B481-47FE-B678-2F55193FE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2256A-1A88-4A70-8DAE-E66AF1EB0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C6044-8081-4820-9E5A-368B54B86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70CF8-5C76-401D-A50C-7C4576D73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4C0524-AC3F-49F7-8AB4-59426AE29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18AA2-4A16-420B-A943-93EBBD7AC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F232C-F4A8-44DD-91FD-EEDB927D5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DACB6-8141-47AB-A4C5-D30220B18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B6307-D0A9-4ACA-8891-4BA2E303F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2924A-3C2B-4833-8B4D-34869FFF5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40469-E14B-41BF-B2A7-B1CF0D812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AE182-8B9D-402F-A45A-CA7B61D5F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85B64-26DF-4073-9576-0C8D3736F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A6173-2F0A-423B-8E2E-5D71FBD5E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C1DB0-5F63-4CEE-A83E-0342ADCF5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559F7-9BFD-446D-A57A-D2EA27BDB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B9F01-9A6D-436C-A489-50B3F44DBB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B307BD-B0B8-4258-AC25-90868D8F1D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35E7AD-2262-4C87-82AF-897DA57378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47F05-D243-40B5-8FDD-9C20C2A3E1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89033-FEA5-4448-B6F4-D48C1D92D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CBDAD5-8534-49D1-80ED-2652DEFDB6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34C68-D047-44A5-8CCD-F20D884C2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3E9F0-97E6-4612-B7C1-60A367819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3F620-9511-4194-8639-D1F53DDC09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7D8F5-77A1-4B7F-8A12-DDD2FB4A5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D1267-2F97-48F8-A82E-35943AA17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C5D33-FC1C-4F8C-893C-3C452BE7FF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C6637D-9147-4F5E-B4AF-370F06B10C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5F6F16-E8FF-4CAB-8125-0E96EEAD6F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797D5E-EBDF-4C06-B438-142A0C20FA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DFE4E7-3F52-43E8-BE2A-D416A0E49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45BF0-67BB-42CD-85CD-176BC732E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E043B-73CF-454B-B54B-DC316780F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741D89-DF1A-4EE3-A9B0-0FEC58366F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3CE7B8-D47D-4504-8A55-1BECCA418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01B607-01FE-4128-9FBD-77BE0DF371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60479-5910-4295-B04D-A323DFC4B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50FC3-306B-4548-A87C-3E249BF95B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44ACD-9054-4FF5-A732-099B31FA1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F0740-4C79-49B5-AA6D-5564DF030E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22BC1E-9F9C-4856-8180-99DCF3B80F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5DB2C6-DA6B-493B-BD15-43AC4DB48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C4B415-7503-4D51-8917-1C77BE6EAD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50BBE-0921-4313-9EB5-522291E6C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79D73A-2790-4E05-A037-9F952FFF04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6D325B-671A-4C20-B95D-7080DCF64F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83115-71D4-4B01-8594-1C37E36EA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44ECF2-11BD-4F71-9362-8FF55DE6A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F6833D-2E3D-4E03-A8A3-31627C543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EAED9-2891-4A2B-A895-0C582EF7DD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CD4EE-96D5-4773-ACEC-92CCDDE87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D567F-AC7D-4531-9331-12DCF648F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E8DD26-B812-406A-A548-12CEBD8C0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2FAE98-57C2-43D9-A17C-4E98030AEB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08600-DE4C-45D8-B874-0D0FAAF99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CEDCF8-46B7-4DC3-888F-3BC3B46945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BA3EB8-5266-417A-8DF2-48B6620B58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34EC59-1CE4-447D-AA1C-52AB483BB6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99521C-ADF5-4968-A9E1-674775EA6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B816B8-993B-47F6-AD39-B1B30345E7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017255-0AC1-402B-9CC9-27FC168228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41276B-F664-4353-ADBE-7937796828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BBF3A-EAF3-4422-8F02-592833A61B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FC7FA2-D4C9-4E87-9302-7DB1750A0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61A02B-D300-455A-92A0-76B210F3F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C1B6C-E0FF-48E1-9B69-5C6A198C5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D60E03-BC77-4FF2-ABD9-75C7EEE1F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206BA8-1CA7-4DCE-8CB5-CB7C7F6342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85C771-3DEE-4E76-8C89-785508E411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912CB-B9D2-4AF1-B1B8-9833A4953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BD5BB-D88C-467A-AB57-3D57A489A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Serbest Form"/>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15 Serbest Form"/>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890D-6D80-48C6-B1D2-242CEFAD6B5C}"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10 Serbest Form"/>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12 Serbest Form"/>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045A-2D27-4961-A032-1596D0095999}" type="slidenum">
              <a:rPr b="0" lang="tr-T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10 Serbest Form"/>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12 Serbest Form"/>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DC81-95E1-491B-B2AD-FB548AFDA10B}" type="slidenum">
              <a:rPr b="0" lang="tr-TR"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7D242-7A70-4BF0-943E-91B3C6505122}"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Serbest Form"/>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15 Serbest Form"/>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04BC-D9D1-471C-96AF-FA2CFFA13199}"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CC20-045E-4A27-9966-3F010228D7FB}" type="slidenum">
              <a:rPr b="0" lang="tr-TR"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1 Başlık" descr=""/>
          <p:cNvPicPr/>
          <p:nvPr/>
        </p:nvPicPr>
        <p:blipFill>
          <a:blip r:embed="rId1"/>
          <a:stretch/>
        </p:blipFill>
        <p:spPr>
          <a:xfrm>
            <a:off x="420840" y="3200400"/>
            <a:ext cx="683892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0" rIns="0" tIns="0" bIns="0" anchor="b">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000" spc="-1" strike="noStrike">
              <a:solidFill>
                <a:srgbClr val="ffffff"/>
              </a:solidFill>
              <a:latin typeface="Arial"/>
            </a:endParaRPr>
          </a:p>
        </p:txBody>
      </p:sp>
      <p:pic>
        <p:nvPicPr>
          <p:cNvPr id="256" name="Picture 2" descr="G:\Yeni Klasör\images.jpg"/>
          <p:cNvPicPr/>
          <p:nvPr/>
        </p:nvPicPr>
        <p:blipFill>
          <a:blip r:embed="rId2"/>
          <a:stretch/>
        </p:blipFill>
        <p:spPr>
          <a:xfrm>
            <a:off x="2792520" y="628560"/>
            <a:ext cx="2328840" cy="2316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fettişliğin gerektirdiği mesleki eğitimi yapmı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Yönetim süreçlerinde bilgi ve beceri kazanmı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eslekle ilgili yasalar hakkında bilgiye sahi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Liderde aranılan niteliklere sahip ve uyanık.</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nsan ilişkilerini sağlama ve geliştirme yeteneğine sahip,</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Rehberlik ve danışmanlık bilgi ve hüneri kazanmış,</a:t>
            </a:r>
            <a:endParaRPr b="0" lang="en-US" sz="3000" spc="-1" strike="noStrike">
              <a:solidFill>
                <a:srgbClr val="ffffff"/>
              </a:solidFill>
              <a:latin typeface="Arial"/>
            </a:endParaRPr>
          </a:p>
          <a:p>
            <a:pPr marL="4190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meslekte gelişmesini sağlayan şahıs,</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değerlendirilmesini yalnız ve hatasız yapan şahı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3628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ffffff"/>
                </a:solidFill>
                <a:latin typeface="Franklin Gothic Book"/>
              </a:rPr>
              <a:t>Müfettişte aranılan Liderlik Nitelikleri</a:t>
            </a:r>
            <a:endParaRPr b="0" lang="en-US" sz="4100" spc="-1" strike="noStrike">
              <a:solidFill>
                <a:srgbClr val="ffffff"/>
              </a:solidFill>
              <a:latin typeface="Franklin Gothic Book"/>
            </a:endParaRPr>
          </a:p>
        </p:txBody>
      </p:sp>
      <p:sp>
        <p:nvSpPr>
          <p:cNvPr id="280" name=""/>
          <p:cNvSpPr txBox="1"/>
          <p:nvPr/>
        </p:nvSpPr>
        <p:spPr>
          <a:xfrm>
            <a:off x="468000" y="1844640"/>
            <a:ext cx="7467480" cy="4525920"/>
          </a:xfrm>
          <a:prstGeom prst="rect">
            <a:avLst/>
          </a:prstGeom>
          <a:noFill/>
          <a:ln w="0">
            <a:noFill/>
          </a:ln>
        </p:spPr>
        <p:txBody>
          <a:bodyPr lIns="90000" rIns="90000" tIns="46800" bIns="46800" anchor="t">
            <a:normAutofit/>
          </a:bodyPr>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fettiş değişen ve gelişen bir ortamda çalışır. Bu nedenle yenilikleri yakından izlemeli, değişme ve gelişmelerin öncüsü, önericisi, deneticisi ve değerlendiricisi olmalıdır. Başarılı bir liderlik için aranılacak nitelikler kişilerin görüşlerine göre değişik olabilirse de müfettiş kişilerden çok grupla çalışacağından aşağıdaki liderlik özellikleri aranır.</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ideal ve görüşlerine,  inançlarına, haklarına ve değer yargılarına karşı saygılı,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imlerle birlikte çalışacağı, ilişki kuracağı ve işbirliği yapacağı hakkında bilgili,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urumun politikası ve yararları hakkında başkalarını aydınlatmaya, yetenekli ve istekl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6840" y="62064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yetki ve sorumluluğunu anlamada, vermede yetenekli ve bilgili,</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hatalarını ortaya koymada, kıskançlık duygu ve hasetlerine karşı uyanık ve dikkatli,</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86" name="Picture 3" descr="G:\Yeni Klasör\P1C8GDCAOXFMDKCANRF2YOCANRJ39GCAVJNOD5CAHVCKTQCAJDLXE1CABPY6BKCAF3WGHECA7FP5TACA9HT6R7CA1LAIBQCA7VHJU4CAJ52QATCALKOVEPCARKA7COCATDBED2CAIR34NICA1IYVUU.jpg"/>
          <p:cNvPicPr/>
          <p:nvPr/>
        </p:nvPicPr>
        <p:blipFill>
          <a:blip r:embed="rId1"/>
          <a:stretch/>
        </p:blipFill>
        <p:spPr>
          <a:xfrm>
            <a:off x="5651640" y="4449600"/>
            <a:ext cx="3382920" cy="452304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8"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n daha iyi yaşaması ve gelişmesi için gerekli olanakları sağlamaya istekli ve gayretl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maçlara ulaşmak için plan ve programlar hazırlama bilgi ve becerisine sahi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örevleri tamamlamak ve amaçlara ulaşmak üzere iyi organize bilgi ve becerisine sahip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Liderlik dinamizmine ilişkin yeterli bilgi ve uygulama becerisi kazanmı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362800" cy="424836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Alternatifler arasında seçim yapma, çabuk ve isabetli karar verme yeteneğini geliştirmi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ararlarda sağlam olmak üzere esas delilleri elde eden, fakat inat etmeyen insan,</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Verilen kararları, koşulları göz önünde bulundurarak uygulama becerisi kazanmış,</a:t>
            </a:r>
            <a:endParaRPr b="0" lang="en-US" sz="3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50920" y="549360"/>
            <a:ext cx="8245440" cy="5749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Bir sistemin amaçlarına yönelik olarak çalışma durumunun değerlendirilmesi, sistemin bütünlüğü ve sistemden çıkan ürün için önem taşır.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istemlerin alt sistemleri arasında bütünleşmenin sağlanması ve her birine amaçlar doğrultusunda, bütünlüğü bozmadan rehberlik ve denetimin yapılması zorunludur.</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istemlerde bu hizmetin tümünü kapsayan sürece teftiş ve hizmeti gören elemana müfettiş adı verilir.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şleri tamamlama, iş usullerini geliştirme ve değerlendirme bilgisine sahip,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Personeli güdeleyen, prestij ve statü sorularında dikkatli olan,</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istemin politika ve organizasyonuna ilişkin çalışmalarda katkıda bulunmak için bilgili ve istekli .</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600" spc="-1" strike="noStrike">
                <a:solidFill>
                  <a:srgbClr val="ffffff"/>
                </a:solidFill>
                <a:latin typeface="Franklin Gothic Book"/>
              </a:rPr>
              <a:t>Hazırlayan</a:t>
            </a:r>
            <a:endParaRPr b="0" lang="en-US" sz="4600" spc="-1" strike="noStrike">
              <a:solidFill>
                <a:srgbClr val="ffffff"/>
              </a:solidFill>
              <a:latin typeface="Franklin Gothic Book"/>
            </a:endParaRPr>
          </a:p>
        </p:txBody>
      </p:sp>
      <p:sp>
        <p:nvSpPr>
          <p:cNvPr id="29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esut Özdemi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59" name="Picture 2" descr="G:\Yeni Klasör\şş.jpg"/>
          <p:cNvPicPr/>
          <p:nvPr/>
        </p:nvPicPr>
        <p:blipFill>
          <a:blip r:embed="rId1"/>
          <a:stretch/>
        </p:blipFill>
        <p:spPr>
          <a:xfrm>
            <a:off x="1914480" y="1427040"/>
            <a:ext cx="5138640" cy="77043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68000" y="404280"/>
            <a:ext cx="828036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ffffff"/>
                </a:solidFill>
                <a:latin typeface="Franklin Gothic Book"/>
              </a:rPr>
              <a:t>Müfettişte Aranılan Kişisel Nitelikler</a:t>
            </a:r>
            <a:endParaRPr b="0" lang="en-US" sz="4100" spc="-1" strike="noStrike">
              <a:solidFill>
                <a:srgbClr val="ffffff"/>
              </a:solidFill>
              <a:latin typeface="Franklin Gothic Book"/>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fettişte aranılacak nitelikleri kesin olarak saptama ve sınırlama olanağı yoktur. ayrıca, aranılan niteliklerin çoğunluğu duygusal alanlarla ilgili olduğundan ölçütlerini de koymak oldukça zordur. müfettişte aranılan aşağıdaki kişisel nitelikler toplumun değer yargılarıyla bağımlıdır.</a:t>
            </a:r>
            <a:endParaRPr b="0" lang="en-US" sz="30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üven ve saygı kazanma yeteneğine sahi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endine güvenen, ehliyetli ve liyakatl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empatik, duygulu ve işlerinde kararlı,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Samimi, hisli ve iyi alışkanlıklar kazanmış,</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yi huylu, sıcak kanlı, yerine göre nükteda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3141720"/>
            <a:ext cx="8686800" cy="345600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Değer biçmede tarafsız, değerlendirme yapmada hatasız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şini benimseyen, seven, gayretli ve hevesli,</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65" name="Picture 2" descr="G:\Yeni Klasör\TR3Q5LCA05M6Y7CAOEI50KCAWM9C6QCAC5ACYNCABKW6K1CAZ6U5ZZCAAZISSYCAVI9Z8YCAXZAAKMCACZWPDFCABNTR0XCANLK80RCAV2URDOCAUKOZ0MCAAYM0S3CAQK9GH4CAX56EF3CAMT63IN.jpg"/>
          <p:cNvPicPr/>
          <p:nvPr/>
        </p:nvPicPr>
        <p:blipFill>
          <a:blip r:embed="rId1"/>
          <a:stretch/>
        </p:blipFill>
        <p:spPr>
          <a:xfrm>
            <a:off x="2779560" y="347760"/>
            <a:ext cx="3803760" cy="50893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7" name=""/>
          <p:cNvSpPr txBox="1"/>
          <p:nvPr/>
        </p:nvSpPr>
        <p:spPr>
          <a:xfrm>
            <a:off x="394920" y="11970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İnceleyici, gözlemci, araştırıcı ve bulucu,</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urumda, işinde ve çevresinde kaynak şahıs,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Düzenli, kılık ve kıyafetine önem veren şahı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68" name="Picture 2" descr="G:\Yeni Klasör\müfettiş resimleri.bmp"/>
          <p:cNvPicPr/>
          <p:nvPr/>
        </p:nvPicPr>
        <p:blipFill>
          <a:blip r:embed="rId1"/>
          <a:stretch/>
        </p:blipFill>
        <p:spPr>
          <a:xfrm>
            <a:off x="2487600" y="3444840"/>
            <a:ext cx="4278240" cy="62848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100" spc="-1" strike="noStrike">
                <a:solidFill>
                  <a:srgbClr val="ffffff"/>
                </a:solidFill>
                <a:latin typeface="Franklin Gothic Book"/>
              </a:rPr>
              <a:t>Müfettişte Aranılan Mesleki Nitelikler</a:t>
            </a:r>
            <a:endParaRPr b="0" lang="en-US" sz="4100" spc="-1" strike="noStrike">
              <a:solidFill>
                <a:srgbClr val="ffffff"/>
              </a:solidFill>
              <a:latin typeface="Franklin Gothic Book"/>
            </a:endParaRPr>
          </a:p>
        </p:txBody>
      </p:sp>
      <p:sp>
        <p:nvSpPr>
          <p:cNvPr id="27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Müfettiş teftiş ettiği kurumda, bir alan uzmanı olarak rol oynayacaktır. bu nedenle kurumlar genellikle müfettişlerini, kurumun iş alanına uygun meslek veya branşta öğrenim yapmış elemanlar arasından seçme ve yetiştirme sistemini uygulamaktadırlar.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13328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Franklin Gothic Book"/>
              </a:rPr>
              <a:t> </a:t>
            </a:r>
            <a:r>
              <a:rPr b="0" lang="tr-TR" sz="2800" spc="-1" strike="noStrike">
                <a:solidFill>
                  <a:srgbClr val="ffffff"/>
                </a:solidFill>
                <a:latin typeface="Franklin Gothic Book"/>
              </a:rPr>
              <a:t>Yetiştirme Programını Tamamlamış Bir Müfettişte Aşağıdaki Mesleki Nitelikler Aranır:</a:t>
            </a:r>
            <a:br>
              <a:rPr sz="2800"/>
            </a:br>
            <a:endParaRPr b="0" lang="en-US" sz="2800" spc="-1" strike="noStrike">
              <a:solidFill>
                <a:srgbClr val="ffffff"/>
              </a:solidFill>
              <a:latin typeface="Franklin Gothic Book"/>
            </a:endParaRPr>
          </a:p>
        </p:txBody>
      </p:sp>
      <p:sp>
        <p:nvSpPr>
          <p:cNvPr id="272" name=""/>
          <p:cNvSpPr txBox="1"/>
          <p:nvPr/>
        </p:nvSpPr>
        <p:spPr>
          <a:xfrm>
            <a:off x="456840" y="2575080"/>
            <a:ext cx="7467480" cy="4525920"/>
          </a:xfrm>
          <a:prstGeom prst="rect">
            <a:avLst/>
          </a:prstGeom>
          <a:noFill/>
          <a:ln w="0">
            <a:noFill/>
          </a:ln>
        </p:spPr>
        <p:txBody>
          <a:bodyPr lIns="90000" rIns="90000" tIns="46800" bIns="46800" anchor="t">
            <a:normAutofit/>
          </a:bodyPr>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Geniş bir temel eğitim ve kültüre sahip, </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ffff"/>
                </a:solidFill>
                <a:latin typeface="Arial"/>
              </a:rPr>
              <a:t>Kurumun iş alanıyla ilgili bilgileri kazanmış,</a:t>
            </a:r>
            <a:endParaRPr b="0" lang="en-US" sz="3000" spc="-1" strike="noStrike">
              <a:solidFill>
                <a:srgbClr val="ffffff"/>
              </a:solidFill>
              <a:latin typeface="Arial"/>
            </a:endParaRPr>
          </a:p>
          <a:p>
            <a:pPr marL="419040" indent="-382680" algn="just">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0:22:28Z</dcterms:created>
  <dc:creator>sporklb</dc:creator>
  <dc:description/>
  <dc:language>en-US</dc:language>
  <cp:lastModifiedBy>sporklb</cp:lastModifiedBy>
  <dcterms:modified xsi:type="dcterms:W3CDTF">2010-11-01T11:38:03Z</dcterms:modified>
  <cp:revision>14</cp:revision>
  <dc:subject/>
  <dc:title>MÜFETTİŞ NİTELİKLERİ VE YETİŞTİRİLMESİ</dc:title>
</cp:coreProperties>
</file>